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F42DD-270A-4B95-8788-0DD4A5BC5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EAE3-A026-425D-A774-A04663D7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679DA-3079-4553-856C-3B2F84431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75876-420A-4F25-BC3E-1129CF4C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78A7D-B6EC-4C80-8F1E-2780946A4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C7AC4-4709-42DC-B0C1-15A757A0D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E9BC-EF36-4E81-A7C4-22B00E5FB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F99A9-A74F-4AE2-B543-ABBB5705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4700-283E-49E1-B830-7778CBD2D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E7756-B095-439B-885C-B1D54C8FA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C8E8B-378E-40F1-A470-A9E3E75A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F6FBD-ACFC-4F9D-AC05-6E9813932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33B21-7993-4128-AF9A-B7F78836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89432-F833-4B44-BAC0-83B33D6C9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DB59B-2FFD-42E7-8F35-FE7684FF1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712C1-532A-4EBC-B280-28FC8E24B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F4795-92BF-4D35-BE48-9E33F3630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AD54-3888-4050-A581-18451A48E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55FF-0640-4E31-8BB3-A1E37BD9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4532-997D-4110-956A-3EBDC3C0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0FBEF-8CD5-4197-8EE6-4779F7BD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C1C7-B73C-4A82-A36C-9B739330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F554-48A9-447D-84EA-7A0E3ACD3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6650-F564-4030-95EA-8A9F1A3A6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0000"/>
              </a:solidFill>
              <a:latin typeface="Arial"/>
            </a:endParaRPr>
          </a:p>
        </p:txBody>
      </p:sp>
      <p:sp>
        <p:nvSpPr>
          <p:cNvPr id="4" name="PlaceHolder 4"/>
          <p:cNvSpPr>
            <a:spLocks noGrp="1"/>
          </p:cNvSpPr>
          <p:nvPr>
            <p:ph type="ftr" idx="2"/>
          </p:nvPr>
        </p:nvSpPr>
        <p:spPr>
          <a:xfrm>
            <a:off x="3657600" y="6248520"/>
            <a:ext cx="3200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1D14-E433-4699-8431-17172043FF7C}" type="slidenum">
              <a:rPr b="0" lang="it-IT" sz="1400" spc="-1" strike="noStrike">
                <a:solidFill>
                  <a:srgbClr val="ff99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43"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44"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0000"/>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4E52-2540-4BE8-B1DE-F1898A2CE8E2}" type="slidenum">
              <a:rPr b="0" lang="it-IT" sz="1400" spc="-1" strike="noStrike">
                <a:solidFill>
                  <a:srgbClr val="ff99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nrico.ciciotti@unicatt.i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data 3"/>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86" name="Segnaposto numero diapositiva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4FC0-5A0E-4D4B-AB91-30BF253AF7AE}"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87" name="Rettangolo 5"/>
          <p:cNvSpPr/>
          <p:nvPr/>
        </p:nvSpPr>
        <p:spPr>
          <a:xfrm>
            <a:off x="826920" y="549360"/>
            <a:ext cx="7561440" cy="588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XXXIX Conferenza scientifica annuale </a:t>
            </a:r>
            <a:endParaRPr b="0" lang="en-US" sz="18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Bolzano, 17-19 Settembre 2018 </a:t>
            </a:r>
            <a:endParaRPr b="0" lang="en-US" sz="18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Sessione ganizzata</a:t>
            </a:r>
            <a:endParaRPr b="0" lang="en-US" sz="24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9999"/>
                </a:solidFill>
                <a:latin typeface="Arial"/>
              </a:rPr>
              <a:t>Il ruolo delle istituzioni e della “governance” nell’innovazione e nelle politiche per lo sviluppo sostenibile di città e territori</a:t>
            </a:r>
            <a:endParaRPr b="0" lang="en-US" sz="24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9999"/>
                </a:solidFill>
                <a:latin typeface="Arial"/>
              </a:rPr>
              <a:t>Istituzioni e governance nelle politiche urbane :alcune riflessioni sull’esperienza Francese</a:t>
            </a:r>
            <a:endParaRPr b="0" lang="en-US" sz="32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Enrico Ciciotti</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LEL- Laboratorio di Economia Locale</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Facoltà di Economia - Sede di Piacenza</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Università Cattolica del S. Cuore</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9966"/>
                </a:solidFill>
                <a:uFillTx/>
                <a:latin typeface="Arial Narrow"/>
                <a:hlinkClick r:id="rId1"/>
              </a:rPr>
              <a:t>enrico.ciciotti@unicatt.it</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Narrow"/>
              </a:rPr>
              <a:t>7</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3"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1F1A-8A7B-4F6E-90AA-3DC59F977D30}"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4" name="Rettangolo 3"/>
          <p:cNvSpPr/>
          <p:nvPr/>
        </p:nvSpPr>
        <p:spPr>
          <a:xfrm>
            <a:off x="468360" y="620640"/>
            <a:ext cx="828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Modello organizzativo</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a promozione spetta alla città di Parigi in collaborazione con gli arrondissments relativi. </a:t>
            </a:r>
            <a:endParaRPr b="0" lang="en-US" sz="2400" spc="-1" strike="noStrike">
              <a:solidFill>
                <a:srgbClr val="009999"/>
              </a:solidFill>
              <a:latin typeface="Arial"/>
            </a:endParaRPr>
          </a:p>
          <a:p>
            <a:pPr lvl="1" marL="343080" indent="-34308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realizzazione ad apposite la SPLA società pubbliche locali di sviluppo.(PBA e SEMAPA), interamente possedute  dalla Città di Parigi (maggioranza ), dal Dipartimento di Parigi e, nel caso di SEMAPA, dalla regione.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6"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A709-4E02-4F79-A7C1-7E1A2718AFDB}"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7" name="Rettangolo 3"/>
          <p:cNvSpPr/>
          <p:nvPr/>
        </p:nvSpPr>
        <p:spPr>
          <a:xfrm>
            <a:off x="611280" y="189000"/>
            <a:ext cx="8064360" cy="594612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SEMAPA </a:t>
            </a:r>
            <a:endParaRPr b="0" lang="en-US" sz="2400" spc="-1" strike="noStrike">
              <a:solidFill>
                <a:srgbClr val="009999"/>
              </a:solidFill>
              <a:latin typeface="Arial"/>
            </a:endParaRPr>
          </a:p>
          <a:p>
            <a:pPr lvl="2">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Dopo aver acquisito i terreni dai diversi proprietari, conduce studi urbani, architettonici, paesaggistici e ambientali per definire e pianificare programmi. Gestisce la infrastrutturazione dei terreni (viabilità), organizza consultazioni per la vendita dei diritti di costruzione a promotori privati o pubblici, realizzazione di spazi e opere pubbliche e coordina tutti i lavori. Inoltre accompagna ogni progetto durante tutto il processo, dall'ideazione alla consegna e assicura la gestione finanziaria delle operazioni. È anche responsabile dell'informazione e della comunicazione. La concertazione è uno degli elementi forti e strutturanti dei progetti urbani. SEMAPA ha circa settanta professionisti della pianificazione (esperti di finanza, ingegneri, tecnici, architetti-pianificatori, avvocati, sviluppatori immobiliari, comunicatori, ecc.)</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9"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C750-6F19-487E-8050-7F9D9658A14B}"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0" name="Rettangolo 3"/>
          <p:cNvSpPr/>
          <p:nvPr/>
        </p:nvSpPr>
        <p:spPr>
          <a:xfrm>
            <a:off x="611280" y="333360"/>
            <a:ext cx="7777080" cy="53355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Paris Batignolles Aménagement </a:t>
            </a:r>
            <a:endParaRPr b="0" lang="en-US" sz="2400" spc="-1" strike="noStrike">
              <a:solidFill>
                <a:srgbClr val="009999"/>
              </a:solidFill>
              <a:latin typeface="Arial"/>
            </a:endParaRPr>
          </a:p>
          <a:p>
            <a:pPr lvl="2">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Svolge studi e coordina tutti gli operatori coinvolti nel sito. Acquista i terreni, li infrastruttura (viabilità) e vende i diritti edificatori per i singoli  programmi ad operatori privati ​​e operatori sociali. E’ responsabile della realizzazione del  il ponte di attraversamento di Berthier Boulevard,  delle lastre di copertura RER C e degli impianti ferroviari tecnici lungo il fascio Saint-Lazare. È presieduto da Annick Lepetit , consigliera parigina che è succeduta nel 2012, la signora Anne Hidalgo , attuale sindaco di Parigi. Intorno al suo direttore generale, Paris Batignolles Aménagement è composto da 4 direzioni. Il team PBA è composto da 26 person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2"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BB05-F125-4C33-B48B-3B9A8CD0C81D}"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3" name="Rettangolo 3"/>
          <p:cNvSpPr/>
          <p:nvPr/>
        </p:nvSpPr>
        <p:spPr>
          <a:xfrm>
            <a:off x="684360" y="476280"/>
            <a:ext cx="7775280" cy="55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municazione , partecipazione e concertazione  </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Clichy Batignolles </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Dal 2008, un'ampia consultazione ha riunito i parigini e i Clichois per il successo del nuovo quartiere Clichy-Batignolles.</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n ogni fase del progetto, workshop, giornate aperte, passeggiate in città, visite in loco, dibattiti consentono il dialogo con i cittadini e arricchiscono il progetto con la loro conoscenza del quartiere e delle loro competenze. utilizzare. Questa consultazione è sotto la supervisione di un </a:t>
            </a:r>
            <a:r>
              <a:rPr b="1" lang="it-IT" sz="2000" spc="-1" strike="noStrike">
                <a:solidFill>
                  <a:srgbClr val="009999"/>
                </a:solidFill>
                <a:latin typeface="Arial"/>
                <a:ea typeface="MS PGothic"/>
              </a:rPr>
              <a:t>garante il</a:t>
            </a:r>
            <a:r>
              <a:rPr b="0" lang="it-IT" sz="2000" spc="-1" strike="noStrike">
                <a:solidFill>
                  <a:srgbClr val="009999"/>
                </a:solidFill>
                <a:latin typeface="Arial"/>
                <a:ea typeface="MS PGothic"/>
              </a:rPr>
              <a:t> cui ruolo è quello di facilitare il dialogo tra i soggetti interessati al progetto e garantire l'ascolto reciproco e l'espressione di tutti. È responsabile della sintesi del lavoro dei vari gruppi e della loro restituzione durante l'assemblea plenaria del progetto.</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Vanno segnalati inoltre:La Maison du Projet e il Sito</a:t>
            </a:r>
            <a:endParaRPr b="0" lang="en-US" sz="20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5"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B251-AEA5-49E3-80D9-4AF060108A9F}"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6" name="Rettangolo 3"/>
          <p:cNvSpPr/>
          <p:nvPr/>
        </p:nvSpPr>
        <p:spPr>
          <a:xfrm>
            <a:off x="611280" y="260280"/>
            <a:ext cx="8281800" cy="5277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Arial"/>
                <a:ea typeface="MS PGothic"/>
              </a:rPr>
              <a:t>Paris Rive Gauche</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Parigi Rive Gauche è la prima operazione di sviluppo ad aver applicato rigorosamente la Carta di consultazione del Ministero dell'Ambiente (luglio 1996). Dall'aprile 1997 esiste un comitato di consultazione permanente che opera sulla base di gruppi di lavoro tematici e riunisce, insieme allo sviluppatore e alla città di Parigi, diverse associazioni locali. Ha un budget operativo autonomo. Questo comitato è unico in Francia.</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noltre, vi sono numerosi altri strumenti di informazione e consultazione:</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un comitato di cantiere creato su iniziativa del RATP consente di coordinare le diverse modalità di trasporto e le attrezzature di Paris Rive Gauche;</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l centro informazioni Maison des Projets , </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l sito web: parisrivegauche.com;</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la rivista Paris Rive Gauche, trimestrale, </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La newsletter "Nel tuo quartiere", pubblicata da SEMA</a:t>
            </a:r>
            <a:r>
              <a:rPr b="0" lang="it-IT" sz="1600" spc="-1" strike="noStrike">
                <a:solidFill>
                  <a:srgbClr val="009999"/>
                </a:solidFill>
                <a:latin typeface="Arial"/>
                <a:ea typeface="MS PGothic"/>
              </a:rPr>
              <a:t>PA,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8"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FAA3-19B1-47FA-85FC-BB7896FE213A}"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9" name="Rettangolo 3"/>
          <p:cNvSpPr/>
          <p:nvPr/>
        </p:nvSpPr>
        <p:spPr>
          <a:xfrm>
            <a:off x="611280" y="428760"/>
            <a:ext cx="7777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Le Ferrovi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Svolgono funzioni sussidiarie . Ad esempio a Clichy Batignolles</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SNCF e RFF</a:t>
            </a:r>
            <a:r>
              <a:rPr b="0" lang="it-IT" sz="2400" spc="-1" strike="noStrike">
                <a:solidFill>
                  <a:srgbClr val="009999"/>
                </a:solidFill>
                <a:latin typeface="Arial"/>
                <a:ea typeface="MS PGothic"/>
              </a:rPr>
              <a:t> erano i proprietarie dei terreni acquistati da Parigi Batignolles Sviluppo e dalla città di Parigi per realizzare l'intero progetto e dallo stato per il Palazzo di giustizia e la Direzione Regionale della Polizia Giudiziaria. Esse manterranno alcune attività della ferrovia del fascio di Saint Lazare </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La RATP e la STIF</a:t>
            </a:r>
            <a:r>
              <a:rPr b="0" lang="it-IT" sz="2400" spc="-1" strike="noStrike">
                <a:solidFill>
                  <a:srgbClr val="009999"/>
                </a:solidFill>
                <a:latin typeface="Arial"/>
                <a:ea typeface="MS PGothic"/>
              </a:rPr>
              <a:t> (unione dei trasporti dell'Île-de-France) sono comproprietari dell'estensione della linea 14 dalla stazione di Saint-Lazare a Mairie de Saint-Ouen.</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Espace Ferroviaire Aménagement </a:t>
            </a:r>
            <a:r>
              <a:rPr b="0" lang="it-IT" sz="2400" spc="-1" strike="noStrike">
                <a:solidFill>
                  <a:srgbClr val="009999"/>
                </a:solidFill>
                <a:latin typeface="Arial"/>
                <a:ea typeface="MS PGothic"/>
              </a:rPr>
              <a:t>sta sviluppando il settore Saussure, la cui terra appartiene alla SNCF.</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1"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D1F2-1533-4D6E-90E0-863FBC5672BC}"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2" name="Rettangolo 3"/>
          <p:cNvSpPr/>
          <p:nvPr/>
        </p:nvSpPr>
        <p:spPr>
          <a:xfrm>
            <a:off x="611280" y="1341360"/>
            <a:ext cx="8064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Gli operatori privati</a:t>
            </a:r>
            <a:endParaRPr b="0" lang="en-US" sz="2400" spc="-1" strike="noStrike">
              <a:solidFill>
                <a:srgbClr val="009999"/>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Operano con diritto di superfice: Man mano che  il progetto avanza, vengono selezionati diversi operatori per costruire gli edifici. Ad esempio a Clichy Batignolles</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fino ad oggi sono stati selezionati : Paris Habitat Oph, Icf La Sablière, RIVP, Nexity Vinci Orpea, Sni, Cogedim, Sodearif, Emerige, Kaufman &amp; Broad, Bouwfonds Marignan e MAB Development, Sefri Cime e Ag2r, I3f, Siemp, OGIC, Demathieu Bard Immobiliare, Bouygues Immobilier , Cassa depositi e prestiti, BNP Paribas Cardif, Icade, Hin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4"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F1DA-0464-44F4-9BBB-3BF867A0130B}"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5" name="Rettangolo 3"/>
          <p:cNvSpPr/>
          <p:nvPr/>
        </p:nvSpPr>
        <p:spPr>
          <a:xfrm>
            <a:off x="324000" y="981000"/>
            <a:ext cx="79930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9999"/>
                </a:solidFill>
                <a:latin typeface="Arial"/>
              </a:rPr>
              <a:t>Milan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Impiego e  destinazione delle aree degli ex-Scali ferroviari milanesi di oltre un milione e duecentomila metri quadrati,(120 h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Approccio: nuovi bisogni vs. disponibilità di aree</a:t>
            </a:r>
            <a:endParaRPr b="0" lang="en-US" sz="22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Non deve costituire solo un progetto urbanistico o di valorizzazione immobiliare , ma servire a definire una strategia di sviluppo urbano e regionale e una serie di progetti di tipo industriale/terziario, infrastrutturale e sociale,  </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Attori: bene e interesse pubblico vs privatizzazione </a:t>
            </a:r>
            <a:endParaRPr b="0" lang="en-US" sz="22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 “</a:t>
            </a:r>
            <a:r>
              <a:rPr b="0" lang="it-IT" sz="2200" spc="-1" strike="noStrike">
                <a:solidFill>
                  <a:srgbClr val="009999"/>
                </a:solidFill>
                <a:latin typeface="Arial"/>
                <a:ea typeface="MS PGothic"/>
              </a:rPr>
              <a:t>Accordo di programma” concluso tra amministrazioni pubbliche e un’impresa privata (Ferrovie dello Stato Spa, oltre all’inaudito coinvolgimento del Fondo Olimpia) </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7"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298B-EA03-4160-82CC-D4A1AB4FF3F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8" name="Rettangolo 3"/>
          <p:cNvSpPr/>
          <p:nvPr/>
        </p:nvSpPr>
        <p:spPr>
          <a:xfrm>
            <a:off x="250920" y="549360"/>
            <a:ext cx="8424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e ferrovie</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rete è appoggiata sul suolo pubblico (concessione o diritto di superficie), che è di proprietà  del demanio pubblico  </a:t>
            </a:r>
            <a:endParaRPr b="0" lang="en-US" sz="2400" spc="-1" strike="noStrike">
              <a:solidFill>
                <a:srgbClr val="009999"/>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Gli operatori immobiliari</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devono intervenire in fase di esecuzione</a:t>
            </a:r>
            <a:endParaRPr b="0" lang="en-US" sz="2400" spc="-1" strike="noStrike">
              <a:solidFill>
                <a:srgbClr val="009999"/>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Consultazione, partecipazione e comunicazione</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v. città metropolitana</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89"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BED0-ECBA-42E2-BC0B-DB7E2B78D815}"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0" name="Rettangolo 3"/>
          <p:cNvSpPr/>
          <p:nvPr/>
        </p:nvSpPr>
        <p:spPr>
          <a:xfrm>
            <a:off x="324000" y="765000"/>
            <a:ext cx="820872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ndic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     </a:t>
            </a:r>
            <a:r>
              <a:rPr b="1" lang="it-IT" sz="2400" spc="-1" strike="noStrike">
                <a:solidFill>
                  <a:srgbClr val="009999"/>
                </a:solidFill>
                <a:latin typeface="Arial"/>
              </a:rPr>
              <a:t>1- I cas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Clichy Batignolles</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Paris Rive Gauch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2-Gli Elementi qualificant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L’approcci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Il contenuto del progett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Il modello organizzativ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Comunicazione, partecipazione e concertazion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Le ferrovi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Gli operatori privat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3-Milan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4-Conclusion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2"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AA71-9D3F-4B42-B64E-7D7630C2617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3" name="Rettangolo 3"/>
          <p:cNvSpPr/>
          <p:nvPr/>
        </p:nvSpPr>
        <p:spPr>
          <a:xfrm>
            <a:off x="900000" y="404640"/>
            <a:ext cx="7201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Arial"/>
              </a:rPr>
              <a:t>Clichy Batignolles</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Il progetto di rigenerazione urbana di Clichy Batignolles ha dovuto confrontarsi con una importante presenza infrastrutturale, costituita daibinari diretti alla stazione di Saint-Lazare dove circolano 1200 treni ogni giorno, la Petite Ceinture nata nel 1845 per riunire le stazioni parigine ed oggi</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praticamente abbandonata, un filamento della RER C che lega Austerliz a Ermont-Eaubonne e dove transitano quotidianamente circa 180 convogli.</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Lanciato nel 2002 dal Comune di Parigi , il progetto è ora gestito dalla </a:t>
            </a:r>
            <a:r>
              <a:rPr b="0" lang="it-IT" sz="2000" spc="-1" strike="noStrike" u="sng">
                <a:solidFill>
                  <a:srgbClr val="009999"/>
                </a:solidFill>
                <a:uFillTx/>
                <a:latin typeface="Arial"/>
              </a:rPr>
              <a:t>società pubblica locale Paris Batignolles Aménagement</a:t>
            </a:r>
            <a:r>
              <a:rPr b="0" lang="it-IT" sz="2000" spc="-1" strike="noStrike">
                <a:solidFill>
                  <a:srgbClr val="009999"/>
                </a:solidFill>
                <a:latin typeface="Arial"/>
              </a:rPr>
              <a:t> (SPLA). Una prima tranche del parco è stata consegnata nel 2007. I primi abitanti si sono stabiliti nel 2012. Quasi tutti i diritti di costruzione sono ora venduti e gli ultimi lavori saranno realizzati fino al completamento del progetto pianificato per il 2020.</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5"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8C51-C2F3-4659-A2B2-02C32DEEE04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6" name="Rettangolo 3"/>
          <p:cNvSpPr/>
          <p:nvPr/>
        </p:nvSpPr>
        <p:spPr>
          <a:xfrm>
            <a:off x="539640" y="476280"/>
            <a:ext cx="7920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9999"/>
                </a:solidFill>
                <a:latin typeface="Arial"/>
              </a:rPr>
              <a:t>Cifre chiave</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54 ha complessivi, di cui :</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ZAC Cardinet Chalabre (7,6 ha)</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ZAC Clichy-Batignolles (43,2 ha)</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Islet Saussure (3 h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0 ettari di parc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400 abitazioni, di cui 50% alloggi sociali, 30 % alloggi  a riscatto, 20% alloggi ad affitto moderat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40.000 m² di uffici</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20.000 m² per il tribunale e la direzione regionale della polizia giudiziari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1.000 m² di negozi, cultura, tempo liber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8.000 m² di strutture pubbliche</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Servizi ferroviari e urbani rafforzati lungo l'infrastruttura</a:t>
            </a:r>
            <a:endParaRPr b="0" lang="en-US" sz="2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	</a:t>
            </a:r>
            <a:r>
              <a:rPr b="0" lang="it-IT" sz="2200" spc="-1" strike="noStrike">
                <a:solidFill>
                  <a:srgbClr val="009999"/>
                </a:solidFill>
                <a:latin typeface="Arial"/>
              </a:rPr>
              <a:t>NB -Le attività di manutenzione ferroviaria, che occupavano lo spazio in modo molto esteso, sono raccolte lungo la trave Saint-Lazare, sotto una lastra sopra i binari della ferrovia, base delle costruzioni future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8"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D260-1896-4F1D-836C-B6FCEAC122D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9" name="Rettangolo 3"/>
          <p:cNvSpPr/>
          <p:nvPr/>
        </p:nvSpPr>
        <p:spPr>
          <a:xfrm>
            <a:off x="755640" y="115920"/>
            <a:ext cx="756144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aris Rive Gauche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t>
            </a:r>
            <a:r>
              <a:rPr b="0" lang="it-IT" sz="2400" spc="-1" strike="noStrike">
                <a:solidFill>
                  <a:srgbClr val="009999"/>
                </a:solidFill>
                <a:latin typeface="Arial"/>
              </a:rPr>
              <a:t>E’ un nuovo quartiere nel 13 ° arrondissement , sulla riva sinistra di Parigi . Coprendo un'area di 130 ettari di cui 26 ettari di copertura dei binari della stazione di Austerlitz, E’ la più grande operazione di pianificazione urbana condotta nella capitale dalle opere Haussmanniane del 19 ° secolo.</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a biblioteca François-Mitterrand e l' Università Diderot di Parigi si trovano in questa zona, lungo il fium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o sviluppo ospita circa 15.000 residenti, 30.000 studenti e personale universitario e 60.000 dipendenti.  È servito dalle stazioni Métro e RER Bibliothèque François Mitterrand , Line 3A alla fermata Avenue de France e Paris Métro station Quai de la Gare .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1"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06BA-5CC9-4B05-A49C-2480C2BCCA5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2" name="Rettangolo 3"/>
          <p:cNvSpPr/>
          <p:nvPr/>
        </p:nvSpPr>
        <p:spPr>
          <a:xfrm>
            <a:off x="826920" y="549360"/>
            <a:ext cx="727416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ifre chiav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bitazione 585.000 m²  (7.500 unità):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 lungo termine, circa 20.000 abitanti;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6.000 abitazioni familiari (3.000 sociali e 3.000 gratuiti);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1.500 unità abitative per studenti (750 sociali e 750 gratui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Uffici 745 000 m²   </a:t>
            </a:r>
            <a:r>
              <a:rPr b="0" lang="it-IT" sz="2400" spc="-1" strike="noStrike">
                <a:solidFill>
                  <a:srgbClr val="009999"/>
                </a:solidFill>
                <a:latin typeface="Arial"/>
              </a:rPr>
              <a:t>: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circa 60 000 dipenden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ttività / Negozi 405 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Strutture pubbliche 665.000 m²</a:t>
            </a:r>
            <a:r>
              <a:rPr b="0" lang="it-IT" sz="2400" spc="-1" strike="noStrike">
                <a:solidFill>
                  <a:srgbClr val="009999"/>
                </a:solidFill>
                <a:latin typeface="Arial"/>
              </a:rPr>
              <a:t>:</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BnF: 250.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Università: 210.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ttrezzature di quartiere: 55.000 m².</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Spazi verdi 98 000 m².</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4"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B9F9-ACD0-4598-A178-37763AAF05A8}"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5" name="Rettangolo 3"/>
          <p:cNvSpPr/>
          <p:nvPr/>
        </p:nvSpPr>
        <p:spPr>
          <a:xfrm>
            <a:off x="611280" y="1052640"/>
            <a:ext cx="7993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lementi qualificanti dei due proget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pproccio</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Partenza dalla domanda cioè dei nuovi bisogni E non dall’offerta cioè dalla disponibilità di spazi urbani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nquadramento in una  vision complessiva cioè in un  disegno generale della città (nel caso di Parigi è l’idea della grande Parigi ). Al riguardo va segnalato il Pavillon de l’Arsenal - il Centro di architettura e urbanistica della città di Parigi e della Metropoli parigina - che offre informazioni documentazioni e mostre per comprendere l’evoluzione di Parigi. E’ possibile vedere il disegno della  Grand Paris, i Grandi progetti di Rinnovazione Urbana, e il Plan Climat Air Energie de Pari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7"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991F-38CD-4AF0-AAF4-F41F1DD92DE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8" name="Rettangolo 4"/>
          <p:cNvSpPr/>
          <p:nvPr/>
        </p:nvSpPr>
        <p:spPr>
          <a:xfrm>
            <a:off x="755640" y="1268280"/>
            <a:ext cx="67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ntenuto del progetto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bisogni di abitazioni, con particolare riferimento alle abitazioni sociali, per studenti, a riscatto per cittadini a basso reddito,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problemi di natura ambientale ,dalla disponibilità di spazi verdi al risparmio energetico e delle acque;</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trasporti  e i collegamenti sostenibili e di mobilità dolce per i cittadini e per i lavoratori che saranno localizzati nelle aree questione</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integrazione con le funzioni ferroviarie vecchie e nuov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0"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6B1A-369D-4D1F-BB13-984846C6C26B}"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1" name="Rettangolo 3"/>
          <p:cNvSpPr/>
          <p:nvPr/>
        </p:nvSpPr>
        <p:spPr>
          <a:xfrm>
            <a:off x="755640" y="1484280"/>
            <a:ext cx="8280360" cy="30200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localizzazione di funzioni privilegiate di alto  rango (il palazzo di giustizia, la  direzione regionale  della polizia Clichy Batignolles), il campus universitario Diderot, la biblioteca nazionale F.Mitterand, il ponte-passerella Simon de Beauvoir , la Station F, promossa come il più grande incubatore di start-up al mondo,  ed altre attività anche private  come i Docks de Paris e la Cité de la mode (Paris Rive Gauch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14:07Z</dcterms:created>
  <dc:creator>Scuola Superiore S.Anna</dc:creator>
  <dc:description/>
  <dc:language>en-US</dc:language>
  <cp:lastModifiedBy>enrico ciciotti</cp:lastModifiedBy>
  <cp:lastPrinted>2018-09-03T16:46:44Z</cp:lastPrinted>
  <dcterms:modified xsi:type="dcterms:W3CDTF">2018-09-20T12:25:36Z</dcterms:modified>
  <cp:revision>220</cp:revision>
  <dc:subject/>
  <dc:title>Verso la Conferenza Strategica</dc:title>
</cp:coreProperties>
</file>