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E78-8670-4A7C-90B5-91F93328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221-75A1-4B3F-B435-0C29A93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1E3-C57F-4976-AA48-D0AE1642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EAC-8F44-40B9-835E-CA66F8EF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3A7B-0602-4204-AAD6-F5EEDDE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58C-7A9B-410D-AC09-FBA25EC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3E8-71C0-40FC-8761-9CEEBA8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99F-9268-4F2C-953C-5985587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D927-5D56-4AB9-B510-CD08E4D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FFF-2612-4616-9E69-E419313E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048-7B83-404A-8F37-E5CB000E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B57-151F-4FCA-A2F5-66841DF5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3AF-61D7-41C8-9373-1670FC8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0ABC-C87E-4D61-8CF6-7F0FFF0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912-E500-49C1-9AF6-1B76FB86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7DCF-DAB9-4109-8AFC-8B023338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6955-5548-47D3-B693-1E3DC938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4DF5-BBF6-46AB-A02C-0216A574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0FCA-8534-4BE0-8FBB-D5CFE240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C10F-D475-4D9C-8B4C-ADF4C56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70E44-79BD-4A15-BCDD-4F271373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756C-5560-4136-A7C4-BB3D9D2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8B0-CB11-4F99-8FEB-36A4C5CB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9A30-6FFD-4580-848C-C3DD99F2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CBBE-E615-4C76-AEAE-BA18FA9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9BA4-0FFB-47F4-8D32-BBB130E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740E-3948-4C49-89A5-932F4D0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BB5B-8502-4D12-8BA8-3851F29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81FA-B313-47BE-9D3C-3A25210C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8980-F9C1-4034-811E-47E3B196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7421-806C-4254-AAE9-A61419D9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3DF5-783A-4301-9EBD-5832C2A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8D74-66E7-4F9C-80D9-ADBED45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3C1-3FB6-4758-9708-9310CDB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8C90-516D-4E37-9D90-E90A93F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F2B8-61FE-4FCF-9DED-4362EE2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E9F9-DEBE-4B82-9F17-91B186F7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9473-0BE3-4182-9C4B-704766F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C82A-07AB-4445-BA0D-C34C8C8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89FF-155F-4149-B12B-BCF2E12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CAED-754D-4B04-A325-EB45733D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F977-FD9A-4BED-B679-78B85BAD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156E-D026-46C8-83DB-86E1AE71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6A1D-4A76-408F-ADB6-69AC829F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FA7-CEAF-436E-9995-6D1BD72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D570-3A52-400D-82A1-2C59B23F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E523-5128-4F8E-BBAC-D2D2CCB4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A761-D434-4C60-A837-C47EDB7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5FCA-FB48-42DE-A8AE-F1C1968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D361-38BE-4B18-8741-3601811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4F12-A563-41B0-9816-0572C1F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6990-508C-48B5-88F2-FEFE006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948B-7000-4F8A-833C-D97FDCC0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F46E-7D46-430F-B3F9-3DEDC367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F8BF-6179-4E7F-93D7-9C5A92F4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E9A-209D-493F-BCE1-C131A50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B913-D743-40E6-961A-4C361FF6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21DD-DAFA-4A0E-9BFF-31C85344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86D7-EF48-4AC7-997B-273C2A8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5E9CC-78ED-45A7-A94B-F778135B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1A447-59DB-4530-802E-51E70671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CA62-08AB-451F-B1BC-9FF4472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F610-91B3-452A-9A44-F831258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D010-5773-4DFA-9DC0-C1D730E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D6FB2-D9BC-4A38-85A6-EF86770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520F-2B37-428B-AF95-58109C9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3F9-950A-464B-9D8E-997C71D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CD16-0AA8-4A61-A18C-86013EE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18575-C6BA-4A35-BF08-B6B57C32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7F8D-4FAC-4B3E-BA2A-2D4C51A6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99B3D-02EA-4823-8ADF-871DD776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8123-0AA1-44F9-A834-EEE8835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386A-4F46-4F12-88B4-01A48C57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D7D35-8ABA-4E45-A6FA-FD425B68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611D-E457-4DC4-AF41-179282CF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13B4-FF0E-4C7A-95C9-D25BE024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B9B8-DD96-4A95-8BA9-90EC524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125-CE56-4829-ABC1-1DF53ED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43EC7-7916-421A-9785-6332ED5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CE84-CA3F-4919-B31A-9B570BB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4069-9559-45CD-B627-C02560A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CD72-F87E-4E7F-B0AF-2C12D82B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001B-4DAE-4F42-8C10-97772B7C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AAEDF-BD5F-4104-806D-96E57259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B4B0-B7EA-44E6-B2AC-D33FF01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12C1-016E-4FA2-A102-51B05A6C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FD44-4D29-4982-A630-A445496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6F02-C779-426B-BAE7-D5A45977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39E-CD56-45CF-ADB2-D33C2FF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7A02-FFC0-4203-9D3D-8B37B378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79DA-A550-4E6B-B94C-EC08D64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9AA1-4F02-4FC7-9C67-6EA2CB6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9D38D-788D-4DB0-82BE-8AF78D8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99EE-BF4D-42C2-A5D7-9B52EF0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B8E5-9E02-4D76-82A9-2DF7E29B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5259-2C3C-46DA-918B-F394C6E9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281200" y="7143840"/>
            <a:ext cx="23526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280" y="7145280"/>
            <a:ext cx="4697280" cy="33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D2F1AED-13EB-4B61-B903-08FFB9243813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iangolo isoscele 9"/>
          <p:cNvSpPr/>
          <p:nvPr/>
        </p:nvSpPr>
        <p:spPr>
          <a:xfrm rot="16200000">
            <a:off x="8328960" y="5792040"/>
            <a:ext cx="2085840" cy="14270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2720" y="6627960"/>
            <a:ext cx="63835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12720" y="6229080"/>
            <a:ext cx="6383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251640" y="6339960"/>
            <a:ext cx="554040" cy="40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7EFBFBE-C8FD-48DD-9701-E34FD07E71D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81200" y="7143480"/>
            <a:ext cx="235260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03280" y="7143480"/>
            <a:ext cx="469728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08CC988-BE5A-4AFA-A7C3-A65D01E4E0F7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9"/>
          <p:cNvSpPr/>
          <p:nvPr/>
        </p:nvSpPr>
        <p:spPr>
          <a:xfrm flipV="1">
            <a:off x="7920" y="6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riangolo isoscele 11"/>
          <p:cNvSpPr/>
          <p:nvPr/>
        </p:nvSpPr>
        <p:spPr>
          <a:xfrm flipV="1" rot="5400000">
            <a:off x="8328960" y="340560"/>
            <a:ext cx="2085840" cy="14270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12"/>
          <p:cNvSpPr/>
          <p:nvPr/>
        </p:nvSpPr>
        <p:spPr>
          <a:xfrm flipH="1" flipV="1">
            <a:off x="7130520" y="1116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nettore 1 14"/>
          <p:cNvSpPr/>
          <p:nvPr/>
        </p:nvSpPr>
        <p:spPr>
          <a:xfrm flipV="1">
            <a:off x="0" y="756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667280" y="7139160"/>
            <a:ext cx="2352600" cy="33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887560" y="7143480"/>
            <a:ext cx="469584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9316800" y="892080"/>
            <a:ext cx="554040" cy="33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684CC0F-6946-4B73-B631-BC8B92B0F282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281200" y="7143840"/>
            <a:ext cx="23526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03280" y="7143840"/>
            <a:ext cx="46972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57B6FDE-4AF1-480C-8086-9EE4A7ECEFC4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5281200" y="7143840"/>
            <a:ext cx="234972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02920" y="7143840"/>
            <a:ext cx="46990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67480" y="7146720"/>
            <a:ext cx="55404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9CCF2C0-01BC-49D9-8FAC-AD1D12FE5DE5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921360" y="7226280"/>
            <a:ext cx="235296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252080" y="7226280"/>
            <a:ext cx="566892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272160" y="722628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8672E2C-FE91-48C9-9D1E-7AFED604D14C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734160" y="7226280"/>
            <a:ext cx="23176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290600" y="7227360"/>
            <a:ext cx="5454720" cy="33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9058320" y="7226280"/>
            <a:ext cx="4032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B2604DA-7FE4-41E1-8DCA-CB125681897A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741240" y="282600"/>
            <a:ext cx="860436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it-IT" sz="4900" spc="-1" strike="noStrike">
                <a:solidFill>
                  <a:srgbClr val="ffffff"/>
                </a:solidFill>
                <a:latin typeface="Times New Roman"/>
              </a:rPr>
              <a:t>Felicità e contesto istituzionale: il caso italiano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968480" y="2708280"/>
            <a:ext cx="75596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-674640" y="4851360"/>
            <a:ext cx="75596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Maria Grazia D'Ap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612360" cy="735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493560" indent="-4222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IX Conferenza scientifica annuale AIS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egioni d’Europa tra identità locali nuove comunità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sparità territorial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zano, 17-19 settembre 201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Felicità e contesto istituzionale: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Il caso italian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Dati e modello econom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"/>
          <p:cNvGrpSpPr/>
          <p:nvPr/>
        </p:nvGrpSpPr>
        <p:grpSpPr>
          <a:xfrm>
            <a:off x="1800360" y="2058840"/>
            <a:ext cx="6638760" cy="371520"/>
            <a:chOff x="1800360" y="2058840"/>
            <a:chExt cx="6638760" cy="371520"/>
          </a:xfrm>
        </p:grpSpPr>
        <p:sp>
          <p:nvSpPr>
            <p:cNvPr id="371" name="Freeform 3"/>
            <p:cNvSpPr/>
            <p:nvPr/>
          </p:nvSpPr>
          <p:spPr>
            <a:xfrm>
              <a:off x="1800360" y="2068560"/>
              <a:ext cx="29988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2092320" y="2154240"/>
              <a:ext cx="16020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2232000" y="2151000"/>
              <a:ext cx="20340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2421000" y="2151000"/>
              <a:ext cx="20304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2620800" y="2151000"/>
              <a:ext cx="17964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2851200" y="2259000"/>
              <a:ext cx="3312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2862360" y="2259000"/>
              <a:ext cx="856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2973240" y="22748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3089160" y="2165400"/>
              <a:ext cx="20160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337824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3570120" y="2247840"/>
              <a:ext cx="781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372744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401796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4227480" y="2247840"/>
              <a:ext cx="41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4365720" y="2068560"/>
              <a:ext cx="2887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4708440" y="2259000"/>
              <a:ext cx="334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4719600" y="2259000"/>
              <a:ext cx="856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4830840" y="22748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494676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5235480" y="2058840"/>
              <a:ext cx="14472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5424480" y="2247840"/>
              <a:ext cx="7956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5607000" y="2068560"/>
              <a:ext cx="201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5856120" y="2259000"/>
              <a:ext cx="8604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596736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609120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636912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6561000" y="2247840"/>
              <a:ext cx="6696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6734160" y="2068560"/>
              <a:ext cx="2142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6991200" y="2259000"/>
              <a:ext cx="8604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710244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722484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7512120" y="2144880"/>
              <a:ext cx="19692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7746840" y="2259000"/>
              <a:ext cx="3204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786276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143920" y="2151000"/>
              <a:ext cx="13968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39040" y="2259000"/>
              <a:ext cx="334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39772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40"/>
          <p:cNvSpPr/>
          <p:nvPr/>
        </p:nvSpPr>
        <p:spPr>
          <a:xfrm>
            <a:off x="741240" y="1963800"/>
            <a:ext cx="87724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0200" indent="-3063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4360"/>
                <a:tab algn="l" pos="8513640"/>
                <a:tab algn="l" pos="8962920"/>
                <a:tab algn="l" pos="941220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063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4360"/>
                <a:tab algn="l" pos="8513640"/>
                <a:tab algn="l" pos="8962920"/>
                <a:tab algn="l" pos="941220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515880" y="2808360"/>
            <a:ext cx="87724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Happy = score di felicità per l'i-esimo individuo della j-esima regione al tempo t, definito su una scala da 1 a 10 (dove 1 è il valore più b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X= vettore delle variabili individuali per l'i-esimo individuo del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Y= vettore delle variabili macroeconomiche per 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Z = vettore delle variabili istituzionali per 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-9360" y="574560"/>
          <a:ext cx="10101240" cy="6796080"/>
        </p:xfrm>
        <a:graphic>
          <a:graphicData uri="http://schemas.openxmlformats.org/drawingml/2006/table">
            <a:tbl>
              <a:tblPr/>
              <a:tblGrid>
                <a:gridCol w="2063520"/>
                <a:gridCol w="6326280"/>
                <a:gridCol w="1711440"/>
              </a:tblGrid>
              <a:tr h="6318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ariabili Vettore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mpatto att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7585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ddito familiare 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ddito ^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, U o estensione paradosso Easterl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Età e Età^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 o 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es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uom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tato civi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poato, 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Livello Istru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i ha almeno una laurea triennale, 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Disoccupa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disoccupat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Pensiona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pensionat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ipo di Impie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Una dummy per ogni tipo di impiego(Lav. Dip, Lav. Aut, Cond. No profess) con gruppo di controllo il Lav. Dip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16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piezza Demograf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Una dummy per ogni categoria di ampiezza dem.(da 0 a 20.000, da 20.000 a 40.000; da 40.000 a 500.000 con gruppo di controllo il primo gruppo  det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108000" rIns="108000" tIns="346320" bIns="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tranie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traniero/no cittadinanza italiana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46320" bIns="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35"/>
          <p:cNvSpPr/>
          <p:nvPr/>
        </p:nvSpPr>
        <p:spPr>
          <a:xfrm>
            <a:off x="-31680" y="0"/>
            <a:ext cx="982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7520"/>
                <a:tab algn="l" pos="9848880"/>
                <a:tab algn="l" pos="10296360"/>
                <a:tab algn="l" pos="107442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ariabili utilizzate e impatto atteso sulla fel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6000" y="287280"/>
          <a:ext cx="9866160" cy="6627960"/>
        </p:xfrm>
        <a:graphic>
          <a:graphicData uri="http://schemas.openxmlformats.org/drawingml/2006/table">
            <a:tbl>
              <a:tblPr/>
              <a:tblGrid>
                <a:gridCol w="4782960"/>
                <a:gridCol w="5083200"/>
              </a:tblGrid>
              <a:tr h="55728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ariabili Vettori Y e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mpatto att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b9"/>
                    </a:solidFill>
                  </a:tcPr>
                </a:tc>
              </a:tr>
              <a:tr h="5493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Pil_ procapite e Pil_procapite^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, U o paradosso Easter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asso Disoccup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ot spese come % del p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per sa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per previd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ambito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Corruption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oice and Accountability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4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gulatory of quality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Government Effectiv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ule of 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 Box 28"/>
          <p:cNvSpPr/>
          <p:nvPr/>
        </p:nvSpPr>
        <p:spPr>
          <a:xfrm>
            <a:off x="720720" y="-965160"/>
            <a:ext cx="8597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isultati (1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rcRect l="20035" t="10044" r="30048" b="10044"/>
          <a:stretch/>
        </p:blipFill>
        <p:spPr>
          <a:xfrm>
            <a:off x="3024360" y="71280"/>
            <a:ext cx="6911640" cy="3816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rcRect l="20035" t="10044" r="30048" b="25094"/>
          <a:stretch/>
        </p:blipFill>
        <p:spPr>
          <a:xfrm>
            <a:off x="3024360" y="3887640"/>
            <a:ext cx="69116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isultati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rcRect l="20035" t="15059" r="25043" b="10044"/>
          <a:stretch/>
        </p:blipFill>
        <p:spPr>
          <a:xfrm>
            <a:off x="2952720" y="0"/>
            <a:ext cx="7012080" cy="421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rcRect l="20035" t="10044" r="25043" b="35138"/>
          <a:stretch/>
        </p:blipFill>
        <p:spPr>
          <a:xfrm>
            <a:off x="2952720" y="4111560"/>
            <a:ext cx="7012080" cy="290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Orderet logistic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741240" y="196380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just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nfine, si è verificato cosa accade alle variabili di interesse e alla variabile Happy in termini probabilistici con una ordered logistic re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Poichè il l'output di questo metodo di stima non permette di calcolare l'entità dell'impatto dei regressori sulla  variabile dipendente ma solo segno e significatività, è sembrato  conveniente analizzare gli e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ffetti marginali dei diversi regressori sulla probabilità che l'indicatore Happy assuma i valori più elevati (8,9,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-291960"/>
            <a:ext cx="1008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Times New Roman"/>
              </a:rPr>
              <a:t>Effetti marginali sulla Probabilità che l'indicatore Happy assuma i valori più elevati (8,9,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741240" y="196380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42920" y="654120"/>
          <a:ext cx="9937800" cy="6905520"/>
        </p:xfrm>
        <a:graphic>
          <a:graphicData uri="http://schemas.openxmlformats.org/drawingml/2006/table">
            <a:tbl>
              <a:tblPr/>
              <a:tblGrid>
                <a:gridCol w="1409760"/>
                <a:gridCol w="1415880"/>
                <a:gridCol w="1368360"/>
                <a:gridCol w="1438560"/>
                <a:gridCol w="1450800"/>
                <a:gridCol w="1400040"/>
                <a:gridCol w="1454400"/>
              </a:tblGrid>
              <a:tr h="869040">
                <a:tc>
                  <a:txBody>
                    <a:bodyPr lIns="90000" rIns="90000" tIns="44208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98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ditoF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5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4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e-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4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7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9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9e-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5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ditoFam^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5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6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2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79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0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6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9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7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2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73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4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3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8828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0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511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56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59658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39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879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11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236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5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5812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40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à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59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0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58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1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38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60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7315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5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0145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45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8458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17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7928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28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9794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43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84494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27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s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74511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40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4952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3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035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87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75980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87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3850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89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0192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05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i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7231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24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7079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283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16437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071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76656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46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5204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296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16698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140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occup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4431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019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268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915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994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3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4698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110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329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63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103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40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. Autono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8297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33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3517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25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23849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52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7993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370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25158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009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173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38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z. No professio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1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304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38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5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9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78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76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346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92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01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5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69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60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ion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986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44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27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804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66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43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24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95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78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769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19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7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032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u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277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97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1547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1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905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50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3629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61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0922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21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821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74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 (20.000-4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684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76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244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5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130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5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008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97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73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57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83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91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7980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 (40.000-50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9303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8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03954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09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80708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614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52785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1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70217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687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54428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0615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980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&gt; (50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467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04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323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91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314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8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820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17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47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06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42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946080" y="611280"/>
          <a:ext cx="8286840" cy="6567480"/>
        </p:xfrm>
        <a:graphic>
          <a:graphicData uri="http://schemas.openxmlformats.org/drawingml/2006/table">
            <a:tbl>
              <a:tblPr/>
              <a:tblGrid>
                <a:gridCol w="1263600"/>
                <a:gridCol w="1179720"/>
                <a:gridCol w="1112760"/>
                <a:gridCol w="1198440"/>
                <a:gridCol w="1181160"/>
                <a:gridCol w="1152720"/>
                <a:gridCol w="1198440"/>
              </a:tblGrid>
              <a:tr h="915840">
                <a:tc>
                  <a:txBody>
                    <a:bodyPr lIns="90000" rIns="90000" tIns="4420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8420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_p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1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3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7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5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7e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1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4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0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8420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_p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7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45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33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6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7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6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384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so di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0048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365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16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76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733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54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65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430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312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39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87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72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t spesa come % p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906770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263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668699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12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612699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66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4200">
                <a:tc>
                  <a:txBody>
                    <a:bodyPr lIns="90000" rIns="90000" tIns="172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66215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5221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2584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968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2318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6297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048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5415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0831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964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262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739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sani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978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527609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1107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37597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967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34915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interventi soci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85499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1828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0597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84258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5648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7741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previdenza ed integraz. sa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4406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4816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210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7675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951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6295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8080"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.y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522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0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21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0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022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7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770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67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255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754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167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8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Conclus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736560" y="1359000"/>
            <a:ext cx="8767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n questo studio si è verificato come il livello di felicità individuale in Italia sia influenz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1) Variabili individuali: gli uomini, i più giovani e i più anziani, gli occupati, le persone sposate e i cittadini italiani sono in media più felici (a parità di tutto il res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2) Variabili macroeconomiche: un elevato tasso di disoccupazione genera una riduzione del benessere soggettivo; vi è evidenza di una relazione ad U tra Pil pro-capite e felicità: inizialmente all'aumentare del Pil procapite, la felicità si riduce per poi au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3) Varibili istituzionali: Un «buon» contesto istituzionale influenza positivamente il benessere soggettivo, in particolare un elevato livello di associazionismo e di partecipazione politica e di efficacia delle azioni di Governo, determinano un incremento del livello di felicità individu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741240" y="282600"/>
            <a:ext cx="86011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Possibili implicazioni di poli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741240" y="1963800"/>
            <a:ext cx="87663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 risultati di questa tesi evidenziano come le variabili chiave nella determinazione del benessere soggettivo siano sia quelle individuali e macroeconomiche sia quelle istitu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Questo potrebbe spingere il policy maker a prestare sempre maggior attenzione a quella che viene ormai definita come “</a:t>
            </a:r>
            <a:r>
              <a:rPr b="0" i="1" lang="it-IT" sz="2400" spc="-1" strike="noStrike" u="sng">
                <a:solidFill>
                  <a:srgbClr val="e6e6e6"/>
                </a:solidFill>
                <a:uFillTx/>
                <a:latin typeface="Times New Roman"/>
              </a:rPr>
              <a:t>Politica della Felicità</a:t>
            </a: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” adottando delle politiche dirette a migliorare le condizioni oggettive della qualità della vita (ambiente, salute, istruzione, benessere materiale, sicurezza, ecc.) e la qualità del contesto istituzionale, con interventi mirati a ridurre i fenomeni di corruzione e di evasione fiscale, aumentare il livello di certezza del diritto (riducendo i tempi di attesa dei processi ad esempio.), di efficacia delle azioni di gov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741240" y="493560"/>
            <a:ext cx="8772480" cy="64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Obiettivo: analizzare l'impatto dei fattori istituzionali sul benessere soggettivo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Dati e Metodologia:  si considera un campione di circa 1200 individui negli anni 2008 e 2012 e viene applicata un’analisi panel e una ordered logistic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Risultati attesi: il contesto istituzionale svolge un ruolo non secondario tra i fattori che influenzano la felicità individu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Contributo dell’analisi svolta: utilizzare per la prima volta in questo tipo di analisi, l’indicatore di qualità istituzionale (IQI) e i suoi sottoindicatori (Corruption, Voice and Accountability, Rule of law, Regulatory of quality, Government Effective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792000" y="61128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4400" spc="-1" strike="noStrike">
                <a:solidFill>
                  <a:srgbClr val="e6e6e6"/>
                </a:solidFill>
                <a:latin typeface="Times New Roman"/>
              </a:rPr>
              <a:t>Grazie per l'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Felicità e Contesto istituzionale:</a:t>
            </a:r>
            <a:br>
              <a:rPr sz="3600"/>
            </a:b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Rassegna della lett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Determinanti della felicità: tripartizione di Frey e Stutzer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1) Fattori Individuali e sociodemogra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2) Fattori macroeconom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3) Fattori istitu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72072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FATTORI INDIVIDUALI</a:t>
            </a:r>
            <a:br>
              <a:rPr sz="3600"/>
            </a:b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ariabili  </a:t>
            </a: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Alcuni studi    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sull'arg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720720" y="1655640"/>
            <a:ext cx="428148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Età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S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Stato civ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ondizione lav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Tipo di impi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Livello istr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Relig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ittadin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ondizione di sal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Reddit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Luogo in cui si 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235480" y="1584360"/>
            <a:ext cx="428148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Blanchflower and Oswald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Frey and Stutzer (2000;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Winkelmann and Winkelmann   (1998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Clark and Oswald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Easterlin et al. (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Frijters e Bratton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Scoppa e Ponzo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736560" y="53964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812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18680"/>
                <a:tab algn="l" pos="10775880"/>
                <a:tab algn="l" pos="1077768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macroeconomiche</a:t>
            </a:r>
            <a:br>
              <a:rPr sz="3200"/>
            </a:b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Variabili                               Studi specifici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sull'argomento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758880" y="2556000"/>
            <a:ext cx="42814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Pil procap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asso di disoccu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asso di Inf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5327640" y="2562120"/>
            <a:ext cx="4281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Easterlin (19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Brickman and Campbell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Di Tella et al. (2001;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Blanchflower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Istituzionali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                              Studi sull'argo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741240" y="1562040"/>
            <a:ext cx="4281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Fattori quantit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buClr>
                <a:srgbClr val="e6e6e6"/>
              </a:buClr>
              <a:buFont typeface="Arial"/>
              <a:buChar char="•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Totale delle spese come %   del 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buClr>
                <a:srgbClr val="e6e6e6"/>
              </a:buClr>
              <a:buFont typeface="Arial"/>
              <a:buChar char="•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Singole componenti di 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1) Spese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2) Spese per previd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3) Spese in ambito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Fattori qualit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Indicatori di qualità  istitu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235480" y="1800360"/>
            <a:ext cx="42814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- Bjornskov et al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Rodriguez-Pose (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Di Tella eMacCulloch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Ram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Hessami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Kotakorpi e Laamanen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Tavits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Coggburn e Scnhneider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Helliwell e Huang (200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Il contesto istituzionale e la misurazione della sua dimensione qual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731880" y="1471680"/>
            <a:ext cx="877248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rasparency Internatonal’s Corruption Perception Index (C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he International Country Risk Guide (IC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Worldwide Governance Indicator (WGI), di Kaufmann et al.(1999;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Regional Quality of Government index (RQoG), del  Government Istitute of University of Gothenburg (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European Quality  of Government Index (EQI), di Charron et al .(2010;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it-IT" sz="2400" spc="-1" strike="noStrike" u="sng">
                <a:solidFill>
                  <a:srgbClr val="e6e6e6"/>
                </a:solidFill>
                <a:uFillTx/>
                <a:latin typeface="Times New Roman"/>
              </a:rPr>
              <a:t>Institutional Quality Index (IQI) di Nifo e Vecchione (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                      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I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741240" y="1440000"/>
            <a:ext cx="876312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741240" y="282600"/>
            <a:ext cx="8597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elazione tra fattori istituzionali e felicità nel campione in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15021" t="20079" r="10016" b="20079"/>
          <a:stretch/>
        </p:blipFill>
        <p:spPr>
          <a:xfrm>
            <a:off x="0" y="2050920"/>
            <a:ext cx="5046840" cy="4105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rcRect l="15021" t="20079" r="15021" b="15059"/>
          <a:stretch/>
        </p:blipFill>
        <p:spPr>
          <a:xfrm>
            <a:off x="5199120" y="2050920"/>
            <a:ext cx="488160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07:11:42Z</dcterms:created>
  <dc:creator>a a</dc:creator>
  <dc:description/>
  <dc:language>en-US</dc:language>
  <cp:lastModifiedBy>Asus</cp:lastModifiedBy>
  <dcterms:modified xsi:type="dcterms:W3CDTF">2018-09-02T05:36:04Z</dcterms:modified>
  <cp:revision>43</cp:revision>
  <dc:subject/>
  <dc:title>Presentazione standard di PowerPoint</dc:title>
</cp:coreProperties>
</file>