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330-9E4E-4902-B383-1FA95933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9A7-BCBF-495A-BFC9-6C290A5A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23A-BD88-4DE0-8898-96CED625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3E2-DB99-4FFE-AA0B-772927A7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D0F-0AB6-48C6-98CD-622D6F55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7E0E-0042-42E2-A7E8-8B1BAD5B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6FCD-A9DC-4573-94A9-5693BE3E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B86B-B58B-4068-BDBE-8FB6DE6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AC50-A13D-4160-BE0A-250C28C7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E06E-6B2E-4EC7-94A3-BF63E534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EEF5-C2AD-4417-B4E0-5AEEFAE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C32-4CC6-4A5E-9196-BC5803C0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CF73-CFE6-4B53-A32A-84AA577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21AA-6FDB-4CB8-912C-0D92B71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006B-FFF8-44AB-93FF-81AC9F95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278C-0EA7-4650-B808-903E07B4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697F-127E-40A8-A126-573E5D8C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959D-E4EC-4BFA-AD3F-4CA5C82E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1777-829E-442B-B6CF-0B1CC188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7A8C-366C-4F84-B092-11B9866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2D1B-418B-4ADE-84F2-029E48AD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ED6B-8E3A-44EE-8351-A1FA624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A4A-0173-4FCC-A10E-50B87BAA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DC6D-101D-479B-8F6D-CA5B5DF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FEF3-9E1E-4C3E-BCBD-C96DDDE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3C7D-6ECB-44C4-BEA3-15D62CA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069F-0DFD-454D-A2ED-E732296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7475-30A4-460E-97ED-5CC8732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DC11-B745-41DE-B875-951AA854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9CB1-399D-42C5-88D0-5EE70585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D26E-058A-40A6-8CA4-F04342A0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4757-48B7-4F1B-8CBC-53824E0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29CB-4FF7-474B-B9BC-EF933BAC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4FC-ADA9-463E-9903-6C15037D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E920-AA22-4499-906C-D7DA1DE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13542-5591-41EB-81D2-DFC45E1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6A1C-070A-465F-9355-FD02EA3B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993C-0FE4-4DE2-9257-F222101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7D94-5EE1-44BC-886E-F146F5B0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3B72-98FC-4407-A51E-E440FB0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92B1-B512-4AB9-80BC-6DB1CB6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E41A-B6D4-4C15-9EF6-EE47CAB5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8C857-6CB2-4C5D-BEDB-FBD07E63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C03E-528E-455E-BAA6-BD5DFDC2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138-8887-466B-9EEC-592DB1CD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C52B4-E55F-4AA4-9696-085084A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111E-894B-43B9-A57E-64FBEC60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E7EA-40FD-4BEA-8217-9043CEEF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E3F1-EE1A-4FFA-BC12-85F1994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7456-FB66-486D-9282-6420357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499B8-C383-4B82-AC9B-E2C258E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267DC-EE66-4378-AA3B-521E230F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6B5B-4B40-40AB-9266-3D66EC5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2D8B-BBF0-416D-B8CA-CCB92902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F2B9-989C-4BE4-ADCC-4E861FEB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A1B-61DE-4CD8-B8A3-6A009F45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6D53-8F79-4A78-8CD5-CFD48717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5A49B-D00C-408D-86C9-4B91ECA4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4B11-6831-46AA-8B85-3CD466A1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4C8D-C394-484B-847F-D5CB4EBB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8A67-1D9C-4529-B547-DB24D068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4B36-2292-4AC8-97DB-BCE0FF8A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C665F-1D21-4112-B447-40AC612B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9143-503C-4C4B-A6F0-E110082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0C286-4C40-4634-A1E5-75975E5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38B7-F2EC-418C-BEBE-327554F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9A0-1989-4E33-BDC4-1847FE9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C8E31-6EBB-4470-81A9-A4E1AD4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B248-E23A-4C40-BD12-DF61E65A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3822-086A-4B1D-B110-3E42504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4E268-9614-43D9-BA53-74C556CF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0E17D-A637-4B3B-8E73-FE7BD686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7747-B95D-4161-93F2-E595E8D9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D7DD-D7CD-450E-ADA4-36C314C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71A11-5DBC-4E09-89CB-418DEBF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62A5E-916B-4377-8308-2A9BBB17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55F7-C365-438E-A009-D07EDA3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D83-6322-4986-8605-E979D077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6A9B-8730-436E-BBDB-E139A819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91861-078E-4E9E-B91F-A81574F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8658-A035-45DE-ACD0-6D1ECEEE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65B5B-BB0F-4210-81EE-1412C75C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86575-EEEB-4AAF-8626-0907D1B6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9ECA-56A5-441C-8A0E-DA21D36B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DEBEE-7F19-4AA9-B957-E1A75AA2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B7F6-77FA-4172-99C4-FAF16838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4A132-D93D-4FA4-93B5-EC3F533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3BCB2-2A6E-43C8-93AA-9DECE9AD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BBF-B35D-45D7-BE0C-F4DAE29A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74160" cy="71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95B3-2B26-4FCA-A93D-B7B80B28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815C7-B282-412B-BFD2-99B99F4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E089F-65CA-4D5F-9527-77B1638E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2F2C7-6507-4C99-B2B5-C226B08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4707360"/>
            <a:ext cx="90741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EF59A-3654-4D57-90DC-66923B9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53040" y="207504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53040" y="4707360"/>
            <a:ext cx="442800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B8632-E550-40DF-ACE4-1553A477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7156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39840" y="207504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7156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639840" y="4707360"/>
            <a:ext cx="2921760" cy="24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A35B6-B78F-4F8A-A0BB-1D3A9BAC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281200" y="7143840"/>
            <a:ext cx="235260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3280" y="7145280"/>
            <a:ext cx="4697280" cy="33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67480" y="714384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AC276D7-A099-4802-B8A7-72D79173DC6B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iangolo isoscele 9"/>
          <p:cNvSpPr/>
          <p:nvPr/>
        </p:nvSpPr>
        <p:spPr>
          <a:xfrm rot="16200000">
            <a:off x="8328960" y="5792040"/>
            <a:ext cx="2085840" cy="14270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12720" y="6627960"/>
            <a:ext cx="63835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512720" y="6229080"/>
            <a:ext cx="6383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251640" y="6339960"/>
            <a:ext cx="554040" cy="40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216C4E5-143B-471C-9DDC-B4E6FEF255B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281200" y="7143480"/>
            <a:ext cx="235260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03280" y="7143480"/>
            <a:ext cx="469728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67480" y="714384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970D24E-7209-49A5-9C4B-413AAB2CFCB1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iangolo rettangolo 9"/>
          <p:cNvSpPr/>
          <p:nvPr/>
        </p:nvSpPr>
        <p:spPr>
          <a:xfrm flipV="1">
            <a:off x="7920" y="6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riangolo isoscele 11"/>
          <p:cNvSpPr/>
          <p:nvPr/>
        </p:nvSpPr>
        <p:spPr>
          <a:xfrm flipV="1" rot="5400000">
            <a:off x="8328960" y="340560"/>
            <a:ext cx="2085840" cy="14270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12"/>
          <p:cNvSpPr/>
          <p:nvPr/>
        </p:nvSpPr>
        <p:spPr>
          <a:xfrm flipH="1" flipV="1">
            <a:off x="7130520" y="1116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nnettore 1 14"/>
          <p:cNvSpPr/>
          <p:nvPr/>
        </p:nvSpPr>
        <p:spPr>
          <a:xfrm flipV="1">
            <a:off x="0" y="756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667280" y="7139160"/>
            <a:ext cx="2352600" cy="33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887560" y="7143480"/>
            <a:ext cx="469584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9316800" y="892080"/>
            <a:ext cx="554040" cy="33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6C82C4B-F18F-4886-9A7E-E2E23F090455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olo rettangolo 10"/>
          <p:cNvSpPr/>
          <p:nvPr/>
        </p:nvSpPr>
        <p:spPr>
          <a:xfrm>
            <a:off x="7920" y="15840"/>
            <a:ext cx="10064880" cy="75358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nettore 1 7"/>
          <p:cNvSpPr/>
          <p:nvPr/>
        </p:nvSpPr>
        <p:spPr>
          <a:xfrm>
            <a:off x="0" y="7920"/>
            <a:ext cx="10072800" cy="754380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ttore 1 8"/>
          <p:cNvSpPr/>
          <p:nvPr/>
        </p:nvSpPr>
        <p:spPr>
          <a:xfrm flipH="1">
            <a:off x="7130520" y="5454720"/>
            <a:ext cx="2946600" cy="209376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281200" y="7143840"/>
            <a:ext cx="235260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03280" y="7143840"/>
            <a:ext cx="469728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367480" y="714384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9B6031C-28C7-44A5-B6CF-8D78E2D9CF5B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5281200" y="7143840"/>
            <a:ext cx="234972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02920" y="7143840"/>
            <a:ext cx="469908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67480" y="7146720"/>
            <a:ext cx="554040" cy="33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E29EF66-E63E-4A30-9BC2-41E93FED6BBE}" type="slidenum">
              <a:rPr b="0" lang="it-IT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921360" y="7226280"/>
            <a:ext cx="235296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252080" y="7226280"/>
            <a:ext cx="566892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272160" y="7226280"/>
            <a:ext cx="55404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6C4CB42-8A12-4497-A04B-697EC406AA66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74160" cy="154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03280" y="2075040"/>
            <a:ext cx="9074160" cy="50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560" indent="-4222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1" marL="906480" indent="-314280">
              <a:spcBef>
                <a:spcPts val="82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320" indent="-25092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3" marL="1511280" indent="-231840">
              <a:spcBef>
                <a:spcPts val="825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4" marL="1763640" indent="-231840">
              <a:spcBef>
                <a:spcPts val="825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5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lvl="6" marL="1763640" indent="-231840">
              <a:spcBef>
                <a:spcPts val="825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734160" y="7226280"/>
            <a:ext cx="231768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290600" y="7227360"/>
            <a:ext cx="5454720" cy="33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9058320" y="7226280"/>
            <a:ext cx="403200" cy="33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230BEFA-AE82-42A6-97E3-C9F5F964468B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741240" y="282600"/>
            <a:ext cx="860436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it-IT" sz="4900" spc="-1" strike="noStrike">
                <a:solidFill>
                  <a:srgbClr val="ffffff"/>
                </a:solidFill>
                <a:latin typeface="Times New Roman"/>
              </a:rPr>
              <a:t>Felicità e contesto istituzionale: il caso italiano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968480" y="2708280"/>
            <a:ext cx="75596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-674640" y="4851360"/>
            <a:ext cx="755964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Maria Grazia D'Apo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612360" cy="735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marL="493560" indent="-4222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IX Conferenza scientifica annuale AIS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regioni d’Europa tra identità locali nuove comunità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isparità territorial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zano, 17-19 settembre 2018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Felicità e contesto istituzionale: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it-IT" sz="4800" spc="-1" strike="noStrike">
                <a:solidFill>
                  <a:srgbClr val="ffffff"/>
                </a:solidFill>
                <a:latin typeface="Times New Roman"/>
              </a:rPr>
              <a:t>Il caso italiano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93560" indent="-42228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   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Dati e modello econome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"/>
          <p:cNvGrpSpPr/>
          <p:nvPr/>
        </p:nvGrpSpPr>
        <p:grpSpPr>
          <a:xfrm>
            <a:off x="1800360" y="2058840"/>
            <a:ext cx="6638760" cy="371520"/>
            <a:chOff x="1800360" y="2058840"/>
            <a:chExt cx="6638760" cy="371520"/>
          </a:xfrm>
        </p:grpSpPr>
        <p:sp>
          <p:nvSpPr>
            <p:cNvPr id="371" name="Freeform 3"/>
            <p:cNvSpPr/>
            <p:nvPr/>
          </p:nvSpPr>
          <p:spPr>
            <a:xfrm>
              <a:off x="1800360" y="2068560"/>
              <a:ext cx="29988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2092320" y="2154240"/>
              <a:ext cx="16020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2232000" y="2151000"/>
              <a:ext cx="203400" cy="2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2421000" y="2151000"/>
              <a:ext cx="203040" cy="2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2620800" y="2151000"/>
              <a:ext cx="17964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2851200" y="2259000"/>
              <a:ext cx="3312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2862360" y="2259000"/>
              <a:ext cx="856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2973240" y="22748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3089160" y="2165400"/>
              <a:ext cx="20160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3378240" y="2058840"/>
              <a:ext cx="14436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3570120" y="2247840"/>
              <a:ext cx="7812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372744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4017960" y="2058840"/>
              <a:ext cx="14436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4227480" y="2247840"/>
              <a:ext cx="4140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4365720" y="2068560"/>
              <a:ext cx="2887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4708440" y="2259000"/>
              <a:ext cx="3348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4719600" y="2259000"/>
              <a:ext cx="856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4830840" y="2274840"/>
              <a:ext cx="42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494676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5235480" y="2058840"/>
              <a:ext cx="14472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5424480" y="2247840"/>
              <a:ext cx="7956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5607000" y="2068560"/>
              <a:ext cx="2016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5856120" y="2259000"/>
              <a:ext cx="8604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5967360" y="2274840"/>
              <a:ext cx="414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609120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6369120" y="2058840"/>
              <a:ext cx="144360" cy="31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6561000" y="2247840"/>
              <a:ext cx="6696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6734160" y="2068560"/>
              <a:ext cx="21420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6991200" y="2259000"/>
              <a:ext cx="8604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7102440" y="2274840"/>
              <a:ext cx="414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722484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7512120" y="2144880"/>
              <a:ext cx="19692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7746840" y="2259000"/>
              <a:ext cx="3204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7862760" y="2100240"/>
              <a:ext cx="201600" cy="20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143920" y="2151000"/>
              <a:ext cx="13968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39040" y="2259000"/>
              <a:ext cx="3348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397720" y="2274840"/>
              <a:ext cx="414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40"/>
          <p:cNvSpPr/>
          <p:nvPr/>
        </p:nvSpPr>
        <p:spPr>
          <a:xfrm>
            <a:off x="741240" y="1963800"/>
            <a:ext cx="87724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0200" indent="-3063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4360"/>
                <a:tab algn="l" pos="8513640"/>
                <a:tab algn="l" pos="8962920"/>
                <a:tab algn="l" pos="941220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063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4360"/>
                <a:tab algn="l" pos="8513640"/>
                <a:tab algn="l" pos="8962920"/>
                <a:tab algn="l" pos="941220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1"/>
          <p:cNvSpPr/>
          <p:nvPr/>
        </p:nvSpPr>
        <p:spPr>
          <a:xfrm>
            <a:off x="515880" y="2808360"/>
            <a:ext cx="877248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Happy = score di felicità per l'i-esimo individuo della j-esima regione al tempo t, definito su una scala da 1 a 10 (dove 1 è il valore più ba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X= vettore delle variabili individuali per l'i-esimo individuo della j-esima regione al t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Y= vettore delle variabili macroeconomiche per la j-esima regione al t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Z = vettore delle variabili istituzionali per la j-esima regione al t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-9360" y="574560"/>
          <a:ext cx="10101240" cy="6796080"/>
        </p:xfrm>
        <a:graphic>
          <a:graphicData uri="http://schemas.openxmlformats.org/drawingml/2006/table">
            <a:tbl>
              <a:tblPr/>
              <a:tblGrid>
                <a:gridCol w="2063520"/>
                <a:gridCol w="6326280"/>
                <a:gridCol w="1711440"/>
              </a:tblGrid>
              <a:tr h="6318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Variabili Vettore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Impatto att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75852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eddito familiare 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eddito ^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6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, U o estensione paradosso Easterl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Età e Età^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 o 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es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uomo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76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tato civi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spoato, 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Livello Istru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si ha almeno una laurea triennale, 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Disoccupa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disoccupato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Pensiona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pensionato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Tipo di Impie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6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Una dummy per ogni tipo di impiego(Lav. Dip, Lav. Aut, Cond. No profess) con gruppo di controllo il Lav. Dip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160"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piezza Demograf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6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Una dummy per ogni categoria di ampiezza dem.(da 0 a 20.000, da 20.000 a 40.000; da 40.000 a 500.000 con gruppo di controllo il primo gruppo  det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108000" rIns="108000" tIns="346320" bIns="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tranie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69000" bIns="0" anchor="t">
                      <a:noAutofit/>
                    </a:bodyPr>
                    <a:p>
                      <a:pPr>
                        <a:lnSpc>
                          <a:spcPct val="5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Dummy=1 se straniero/no cittadinanza italiana,0 alt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346320" bIns="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5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35"/>
          <p:cNvSpPr/>
          <p:nvPr/>
        </p:nvSpPr>
        <p:spPr>
          <a:xfrm>
            <a:off x="-31680" y="0"/>
            <a:ext cx="982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7520"/>
                <a:tab algn="l" pos="9848880"/>
                <a:tab algn="l" pos="10296360"/>
                <a:tab algn="l" pos="107442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Variabili utilizzate e impatto atteso sulla fel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16000" y="287280"/>
          <a:ext cx="9866160" cy="6627960"/>
        </p:xfrm>
        <a:graphic>
          <a:graphicData uri="http://schemas.openxmlformats.org/drawingml/2006/table">
            <a:tbl>
              <a:tblPr/>
              <a:tblGrid>
                <a:gridCol w="4782960"/>
                <a:gridCol w="5083200"/>
              </a:tblGrid>
              <a:tr h="55728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Variabili Vettori Y e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Impatto att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b9"/>
                    </a:solidFill>
                  </a:tcPr>
                </a:tc>
              </a:tr>
              <a:tr h="54936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Pil_ procapite e Pil_procapite^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, U o paradosso Easter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Tasso Disoccup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Tot spese come % del p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pese per sa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pese per previd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Spese ambito so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ambig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I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Corruption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Voice and Accountability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4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egulatory of quality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Government Effective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Rule of L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31400" bIns="360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e6e6e6"/>
                          </a:solidFill>
                          <a:latin typeface="Times New Roman"/>
                        </a:rPr>
                        <a:t>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ext Box 28"/>
          <p:cNvSpPr/>
          <p:nvPr/>
        </p:nvSpPr>
        <p:spPr>
          <a:xfrm>
            <a:off x="720720" y="-965160"/>
            <a:ext cx="8597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Risultati (1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rcRect l="20035" t="10044" r="30048" b="10044"/>
          <a:stretch/>
        </p:blipFill>
        <p:spPr>
          <a:xfrm>
            <a:off x="3024360" y="71280"/>
            <a:ext cx="6911640" cy="3816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rcRect l="20035" t="10044" r="30048" b="25094"/>
          <a:stretch/>
        </p:blipFill>
        <p:spPr>
          <a:xfrm>
            <a:off x="3024360" y="3887640"/>
            <a:ext cx="69116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74124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Risultati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rcRect l="20035" t="15059" r="25043" b="10044"/>
          <a:stretch/>
        </p:blipFill>
        <p:spPr>
          <a:xfrm>
            <a:off x="2952720" y="0"/>
            <a:ext cx="7012080" cy="4218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rcRect l="20035" t="10044" r="25043" b="35138"/>
          <a:stretch/>
        </p:blipFill>
        <p:spPr>
          <a:xfrm>
            <a:off x="2952720" y="4111560"/>
            <a:ext cx="7012080" cy="290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74124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Orderet logistic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741240" y="1963800"/>
            <a:ext cx="87678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just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Infine, si è verificato cosa accade alle variabili di interesse e alla variabile Happy in termini probabilistici con una ordered logistic reg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Poichè il l'output di questo metodo di stima non permette di calcolare l'entità dell'impatto dei regressori sulla  variabile dipendente ma solo segno e significatività, è sembrato  conveniente analizzare gli e</a:t>
            </a: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ffetti marginali dei diversi regressori sulla probabilità che l'indicatore Happy assuma i valori più elevati (8,9,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-291960"/>
            <a:ext cx="1008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Times New Roman"/>
              </a:rPr>
              <a:t>Effetti marginali sulla Probabilità che l'indicatore Happy assuma i valori più elevati (8,9,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741240" y="1963800"/>
            <a:ext cx="87678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42920" y="654120"/>
          <a:ext cx="9937800" cy="6905520"/>
        </p:xfrm>
        <a:graphic>
          <a:graphicData uri="http://schemas.openxmlformats.org/drawingml/2006/table">
            <a:tbl>
              <a:tblPr/>
              <a:tblGrid>
                <a:gridCol w="1409760"/>
                <a:gridCol w="1415880"/>
                <a:gridCol w="1368360"/>
                <a:gridCol w="1438560"/>
                <a:gridCol w="1450800"/>
                <a:gridCol w="1400040"/>
                <a:gridCol w="1454400"/>
              </a:tblGrid>
              <a:tr h="869040">
                <a:tc>
                  <a:txBody>
                    <a:bodyPr lIns="90000" rIns="90000" tIns="44208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3798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ditoF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5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04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e-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4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7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e-0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9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9e-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5e-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ditoFam^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5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6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2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79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0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6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9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7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2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73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4e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3e-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8828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04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6511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56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59658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39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8799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11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6236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5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5812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140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à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59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7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4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40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58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41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38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60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73159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51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0145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45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8458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178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7928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028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9794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43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84494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27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s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745119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40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4952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3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035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887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75980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87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3850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89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0192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05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i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72310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724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27079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283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16437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0714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76656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846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252041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2968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16698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140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occup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4431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4019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3268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915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994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736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4698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4110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3329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863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3103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740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v. Autono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8297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33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35172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25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23849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524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7993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370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25158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009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173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238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9564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z. No profession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619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3045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38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356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39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4788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576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346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392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012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35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469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60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ion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986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444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27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8044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666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43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24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495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878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7698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819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372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403200">
                <a:tc>
                  <a:txBody>
                    <a:bodyPr lIns="90000" rIns="90000" tIns="1897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u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4277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497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31547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14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9055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0506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43629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61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30922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21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8821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074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5640">
                <a:tc>
                  <a:txBody>
                    <a:bodyPr lIns="90000" rIns="90000" tIns="1735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. Dem (20.000-40.0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684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76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244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85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130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5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008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97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73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857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0683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91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79800">
                <a:tc>
                  <a:txBody>
                    <a:bodyPr lIns="90000" rIns="90000" tIns="1735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. Dem (40.000-500.0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93034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8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03954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7096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80708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6143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252785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1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70217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687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54428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0615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9800">
                <a:tc>
                  <a:txBody>
                    <a:bodyPr lIns="90000" rIns="90000" tIns="17352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. Dem&gt; (500.0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467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048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323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91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314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88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820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17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47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06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42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946080" y="611280"/>
          <a:ext cx="8286840" cy="6567480"/>
        </p:xfrm>
        <a:graphic>
          <a:graphicData uri="http://schemas.openxmlformats.org/drawingml/2006/table">
            <a:tbl>
              <a:tblPr/>
              <a:tblGrid>
                <a:gridCol w="1263600"/>
                <a:gridCol w="1179720"/>
                <a:gridCol w="1112760"/>
                <a:gridCol w="1198440"/>
                <a:gridCol w="1181160"/>
                <a:gridCol w="1152720"/>
                <a:gridCol w="1198440"/>
              </a:tblGrid>
              <a:tr h="915840">
                <a:tc>
                  <a:txBody>
                    <a:bodyPr lIns="90000" rIns="90000" tIns="4420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i marginali sulla Pr che happy=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8420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_p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1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3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7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5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7e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0013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1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4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0e-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8e-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8420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_pc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7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45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33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36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7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e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6e-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384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so di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70048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365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5166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76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7334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54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665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430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7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312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39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287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4280">
                <a:tc>
                  <a:txBody>
                    <a:bodyPr lIns="90000" rIns="90000" tIns="172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ot spesa come % p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906770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42633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668699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12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612699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8663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4200">
                <a:tc>
                  <a:txBody>
                    <a:bodyPr lIns="90000" rIns="90000" tIns="172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Q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66215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52217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25842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968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12318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6297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0487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54155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08316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9646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12623**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37393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428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a per sanit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978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527609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1107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37597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967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34915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428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a per interventi soci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85499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1828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60597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84258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5648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7741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4280"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a per previdenza ed integraz. sal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90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4406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48165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0210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7675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951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6295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8080"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.ye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522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506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21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10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022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0997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770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2467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255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754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112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167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01638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4124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Conclusio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736560" y="1359000"/>
            <a:ext cx="8767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In questo studio si è verificato come il livello di felicità individuale in Italia sia influenza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1) Variabili individuali: gli uomini, i più giovani e i più anziani, gli occupati, le persone sposate e i cittadini italiani sono in media più felici (a parità di tutto il res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2) Variabili macroeconomiche: un elevato tasso di disoccupazione genera una riduzione del benessere soggettivo; vi è evidenza di una relazione ad U tra Pil pro-capite e felicità: inizialmente all'aumentare del Pil procapite, la felicità si riduce per poi au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3) Varibili istituzionali: Un «buon» contesto istituzionale influenza positivamente il benessere soggettivo, in particolare un elevato livello di associazionismo e di partecipazione politica e di efficacia delle azioni di Governo, determinano un incremento del livello di felicità individu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741240" y="282600"/>
            <a:ext cx="86011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Possibili implicazioni di poli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741240" y="1963800"/>
            <a:ext cx="87663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I risultati di questa tesi evidenziano come le variabili chiave nella determinazione del benessere soggettivo siano sia quelle individuali e macroeconomiche sia quelle istituz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01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4720"/>
                <a:tab algn="l" pos="8874000"/>
                <a:tab algn="l" pos="93232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Questo potrebbe spingere il policy maker a prestare sempre maggior attenzione a quella che viene ormai definita come “</a:t>
            </a:r>
            <a:r>
              <a:rPr b="0" i="1" lang="it-IT" sz="2400" spc="-1" strike="noStrike" u="sng">
                <a:solidFill>
                  <a:srgbClr val="e6e6e6"/>
                </a:solidFill>
                <a:uFillTx/>
                <a:latin typeface="Times New Roman"/>
              </a:rPr>
              <a:t>Politica della Felicità</a:t>
            </a: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” adottando delle politiche dirette a migliorare le condizioni oggettive della qualità della vita (ambiente, salute, istruzione, benessere materiale, sicurezza, ecc.) e la qualità del contesto istituzionale, con interventi mirati a ridurre i fenomeni di corruzione e di evasione fiscale, aumentare il livello di certezza del diritto (riducendo i tempi di attesa dei processi ad esempio.), di efficacia delle azioni di gov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741240" y="493560"/>
            <a:ext cx="8772480" cy="64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Obiettivo: analizzare l'impatto dei fattori istituzionali sul benessere soggettivo 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Dati e Metodologia:  si considera un campione di circa 1200 individui negli anni 2008 e 2012 e viene applicata un’analisi panel e una ordered logistic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Risultati attesi: il contesto istituzionale svolge un ruolo non secondario tra i fattori che influenzano la felicità individu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cccccc"/>
                </a:solidFill>
                <a:latin typeface="Times New Roman"/>
              </a:rPr>
              <a:t>Contributo dell’analisi svolta: utilizzare per la prima volta in questo tipo di analisi, l’indicatore di qualità istituzionale (IQI) e i suoi sottoindicatori (Corruption, Voice and Accountability, Rule of law, Regulatory of quality, Government Effectivene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792000" y="611280"/>
            <a:ext cx="87678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4400" spc="-1" strike="noStrike">
                <a:solidFill>
                  <a:srgbClr val="e6e6e6"/>
                </a:solidFill>
                <a:latin typeface="Times New Roman"/>
              </a:rPr>
              <a:t>Grazie per l'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Felicità e Contesto istituzionale:</a:t>
            </a:r>
            <a:br>
              <a:rPr sz="3600"/>
            </a:b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Rassegna della letter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Determinanti della felicità: tripartizione di Frey e Stutzer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1) Fattori Individuali e sociodemogra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2) Fattori macroeconom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800" spc="-1" strike="noStrike">
                <a:solidFill>
                  <a:srgbClr val="e6e6e6"/>
                </a:solidFill>
                <a:latin typeface="Times New Roman"/>
              </a:rPr>
              <a:t>3) Fattori istitu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720720" y="17928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FATTORI INDIVIDUALI</a:t>
            </a:r>
            <a:br>
              <a:rPr sz="3600"/>
            </a:b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Variabili  </a:t>
            </a:r>
            <a:r>
              <a:rPr b="1" i="1" lang="it-IT" sz="3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Alcuni studi    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sull'arg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720720" y="1655640"/>
            <a:ext cx="428148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Età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S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Stato civ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Condizione lav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Tipo di impi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Livello istru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Relig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Cittadin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Condizione di sal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Reddito n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Luogo in cui si v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235480" y="1584360"/>
            <a:ext cx="428148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Blanchflower and Oswald (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Frey and Stutzer (2000;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Winkelmann and Winkelmann   (1998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Clark and Oswald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Easterlin et al. (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 Frijters e Bratton (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200" spc="-1" strike="noStrike">
                <a:solidFill>
                  <a:srgbClr val="e6e6e6"/>
                </a:solidFill>
                <a:latin typeface="Times New Roman"/>
              </a:rPr>
              <a:t>-Scoppa e Ponzo (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736560" y="53964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8812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18680"/>
                <a:tab algn="l" pos="10775880"/>
                <a:tab algn="l" pos="1077768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Variabili macroeconomiche</a:t>
            </a:r>
            <a:br>
              <a:rPr sz="3200"/>
            </a:b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Variabili                               Studi specifici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sull'argomento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758880" y="2556000"/>
            <a:ext cx="42814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Pil procap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asso di disoccu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asso di Inf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5327640" y="2562120"/>
            <a:ext cx="4281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8680" indent="-32868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Easterlin (19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Brickman and Campbell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Di Tella et al. (2001;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Blanchflower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Variabili Istituzionali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Variabili                               Studi sull'argo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741240" y="1562040"/>
            <a:ext cx="42814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Fattori quantit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buClr>
                <a:srgbClr val="e6e6e6"/>
              </a:buClr>
              <a:buFont typeface="Arial"/>
              <a:buChar char="•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Totale delle spese come %   del 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buClr>
                <a:srgbClr val="e6e6e6"/>
              </a:buClr>
              <a:buFont typeface="Arial"/>
              <a:buChar char="•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Singole componenti di 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1) Spese 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2) Spese per previd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792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  <a:ea typeface="Microsoft YaHei"/>
              </a:rPr>
              <a:t>3) Spese in ambito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Wingdings" charset="2"/>
              <a:buChar char=""/>
              <a:tabLst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Fattori qualit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48520"/>
                <a:tab algn="l" pos="8497800"/>
                <a:tab algn="l" pos="8947080"/>
                <a:tab algn="l" pos="93963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Indicatori di qualità  istitu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235480" y="1800360"/>
            <a:ext cx="428148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- Bjornskov et al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18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Rodriguez-Pose (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Di Tella eMacCulloch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Ram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Hessami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Kotakorpi e Laamanen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Tavits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Coggburn e Scnhneider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- Helliwell e Huang (200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Il contesto istituzionale e la misurazione della sua dimensione qual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731880" y="1471680"/>
            <a:ext cx="877248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8680" indent="-32868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rasparency Internatonal’s Corruption Perception Index (C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The International Country Risk Guide (IC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Worldwide Governance Indicator (WGI), di Kaufmann et al.(1999;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Regional Quality of Government index (RQoG), del  Government Istitute of University of Gothenburg (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it-IT" sz="2400" spc="-1" strike="noStrike">
                <a:solidFill>
                  <a:srgbClr val="e6e6e6"/>
                </a:solidFill>
                <a:latin typeface="Times New Roman"/>
              </a:rPr>
              <a:t>European Quality  of Government Index (EQI), di Charron et al .(2010;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43000"/>
              </a:lnSpc>
              <a:spcAft>
                <a:spcPts val="1426"/>
              </a:spcAft>
              <a:buClr>
                <a:srgbClr val="e6e6e6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2840"/>
                <a:tab algn="l" pos="8412120"/>
                <a:tab algn="l" pos="8861400"/>
                <a:tab algn="l" pos="931068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it-IT" sz="2400" spc="-1" strike="noStrike" u="sng">
                <a:solidFill>
                  <a:srgbClr val="e6e6e6"/>
                </a:solidFill>
                <a:uFillTx/>
                <a:latin typeface="Times New Roman"/>
              </a:rPr>
              <a:t>Institutional Quality Index (IQI) di Nifo e Vecchione (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2400" spc="-1" strike="noStrike">
                <a:solidFill>
                  <a:srgbClr val="ff9966"/>
                </a:solidFill>
                <a:latin typeface="Arial"/>
              </a:rPr>
              <a:t>                                            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I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741240" y="1440000"/>
            <a:ext cx="876312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741240" y="282600"/>
            <a:ext cx="8597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Relazione tra fattori istituzionali e felicità nel campione in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15021" t="20079" r="10016" b="20079"/>
          <a:stretch/>
        </p:blipFill>
        <p:spPr>
          <a:xfrm>
            <a:off x="0" y="2050920"/>
            <a:ext cx="5046840" cy="4105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rcRect l="15021" t="20079" r="15021" b="15059"/>
          <a:stretch/>
        </p:blipFill>
        <p:spPr>
          <a:xfrm>
            <a:off x="5199120" y="2050920"/>
            <a:ext cx="488160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07:11:42Z</dcterms:created>
  <dc:creator>a a</dc:creator>
  <dc:description/>
  <dc:language>en-US</dc:language>
  <cp:lastModifiedBy>Asus</cp:lastModifiedBy>
  <dcterms:modified xsi:type="dcterms:W3CDTF">2018-09-02T05:36:04Z</dcterms:modified>
  <cp:revision>43</cp:revision>
  <dc:subject/>
  <dc:title>Presentazione standard di PowerPoint</dc:title>
</cp:coreProperties>
</file>